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C0A-3CAA-4227-8AB7-3A318DD2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8001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9A0-FE2C-486B-A5AE-2559EB03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120" y="15998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5120" y="39085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AE7-171B-4E7A-A6E6-F945C7AE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840" y="159984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6240" y="159984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840" y="390852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6240" y="390852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86B5-E5BE-40DA-B87F-F5AF4D04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539-1DF9-4BBC-A13D-8A9291F1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BF4-DBD3-4CA8-9AEB-5AB4ED1B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59984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792-F68C-4255-8684-FDE70D3D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EEB-821E-40E2-81F4-5258C830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685440"/>
            <a:ext cx="80010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63A-6EBD-46AA-B7EB-1CDD7CB2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59984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B4A-8531-46DE-923A-895E7E2D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5998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5120" y="39085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5BB-3D2C-42C0-A671-F470697C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5120" y="159984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8001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54C-B97A-4902-A399-03FD165C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6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SzPct val="6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99"/>
              </a:buClr>
              <a:buSzPct val="6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99"/>
              </a:buClr>
              <a:buSzPct val="6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99"/>
              </a:buClr>
              <a:buSzPct val="6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4EB1-AEA7-4BF2-B787-BA030F69D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44280"/>
          <a:ext cx="9144000" cy="66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4280"/>
                    <a:ext cx="9144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0" y="6165720"/>
          <a:ext cx="9144000" cy="59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65720"/>
                    <a:ext cx="9144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Observation Data Model &amp; the Radio Data Model</a:t>
            </a: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La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IRO ICT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Instrument model</a:t>
            </a: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57360" y="17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352680" y="522360"/>
          <a:ext cx="5629320" cy="56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522360"/>
                    <a:ext cx="56293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Project proposal</a:t>
            </a: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2" name="InterferometryModel.p1" descr=""/>
          <p:cNvPicPr/>
          <p:nvPr/>
        </p:nvPicPr>
        <p:blipFill>
          <a:blip r:embed="rId1"/>
          <a:srcRect l="12222" t="14389" r="51449" b="43263"/>
          <a:stretch/>
        </p:blipFill>
        <p:spPr>
          <a:xfrm>
            <a:off x="1676520" y="1295280"/>
            <a:ext cx="5865840" cy="4832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440" y="2438280"/>
            <a:ext cx="6172200" cy="3733920"/>
          </a:xfrm>
          <a:prstGeom prst="rect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Observing Configuration &amp; Coverage</a:t>
            </a: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6" name="InterferometryModel.p2" descr=""/>
          <p:cNvPicPr/>
          <p:nvPr/>
        </p:nvPicPr>
        <p:blipFill>
          <a:blip r:embed="rId1"/>
          <a:srcRect l="10794" t="16724" r="22925" b="17729"/>
          <a:stretch/>
        </p:blipFill>
        <p:spPr>
          <a:xfrm>
            <a:off x="685800" y="1066680"/>
            <a:ext cx="7086600" cy="4953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2133720"/>
            <a:ext cx="5029200" cy="2819160"/>
          </a:xfrm>
          <a:custGeom>
            <a:avLst/>
            <a:gdLst/>
            <a:ahLst/>
            <a:rect l="l" t="t" r="r" b="b"/>
            <a:pathLst>
              <a:path w="3168" h="1776">
                <a:moveTo>
                  <a:pt x="0" y="672"/>
                </a:moveTo>
                <a:lnTo>
                  <a:pt x="672" y="672"/>
                </a:lnTo>
                <a:lnTo>
                  <a:pt x="672" y="0"/>
                </a:lnTo>
                <a:lnTo>
                  <a:pt x="3168" y="0"/>
                </a:lnTo>
                <a:lnTo>
                  <a:pt x="3168" y="672"/>
                </a:lnTo>
                <a:lnTo>
                  <a:pt x="2304" y="672"/>
                </a:lnTo>
                <a:lnTo>
                  <a:pt x="2304" y="1200"/>
                </a:lnTo>
                <a:lnTo>
                  <a:pt x="1776" y="1200"/>
                </a:lnTo>
                <a:lnTo>
                  <a:pt x="1776" y="1776"/>
                </a:lnTo>
                <a:lnTo>
                  <a:pt x="0" y="1776"/>
                </a:lnTo>
                <a:lnTo>
                  <a:pt x="0" y="672"/>
                </a:lnTo>
                <a:close/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1523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bserving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352680"/>
            <a:ext cx="4578480" cy="3238560"/>
          </a:xfrm>
          <a:custGeom>
            <a:avLst/>
            <a:gdLst/>
            <a:ahLst/>
            <a:rect l="l" t="t" r="r" b="b"/>
            <a:pathLst>
              <a:path w="2884" h="2040">
                <a:moveTo>
                  <a:pt x="0" y="1056"/>
                </a:moveTo>
                <a:lnTo>
                  <a:pt x="240" y="1056"/>
                </a:lnTo>
                <a:lnTo>
                  <a:pt x="240" y="528"/>
                </a:lnTo>
                <a:lnTo>
                  <a:pt x="768" y="528"/>
                </a:lnTo>
                <a:lnTo>
                  <a:pt x="768" y="0"/>
                </a:lnTo>
                <a:lnTo>
                  <a:pt x="2880" y="0"/>
                </a:lnTo>
                <a:lnTo>
                  <a:pt x="2884" y="2040"/>
                </a:lnTo>
                <a:lnTo>
                  <a:pt x="4" y="2040"/>
                </a:lnTo>
                <a:lnTo>
                  <a:pt x="0" y="1056"/>
                </a:lnTo>
                <a:close/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3733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haracte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4724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45720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freq su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4572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pos su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5943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freq res, 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5943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vel res, 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ff"/>
                </a:solidFill>
                <a:latin typeface="Arial"/>
              </a:rPr>
              <a:t>pol su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56386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pos 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2133720"/>
            <a:ext cx="2133720" cy="1066680"/>
          </a:xfrm>
          <a:prstGeom prst="rect">
            <a:avLst/>
          </a:prstGeom>
          <a:noFill/>
          <a:ln w="2844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1600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Observation &amp; calibration data</a:t>
            </a: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1" name="InterferometryModel.p3" descr=""/>
          <p:cNvPicPr/>
          <p:nvPr/>
        </p:nvPicPr>
        <p:blipFill>
          <a:blip r:embed="rId1"/>
          <a:srcRect l="10794" t="21765" r="15084" b="16724"/>
          <a:stretch/>
        </p:blipFill>
        <p:spPr>
          <a:xfrm>
            <a:off x="533520" y="1371600"/>
            <a:ext cx="7924680" cy="4648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90920" y="1447920"/>
            <a:ext cx="1218960" cy="10666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2133720"/>
            <a:ext cx="2057400" cy="53316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1371600"/>
            <a:ext cx="2438280" cy="12952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3124080"/>
            <a:ext cx="6705360" cy="29718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urc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51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haracte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666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bserving Con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haracterisation (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What we get from the model</a:t>
            </a: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6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for data (cone, frequency coverage, frequency resolution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6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for provenance (observers, reasons for making observation, configuration of instru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6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for data+calibr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rive web service data reduction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Pipeline driven from metadata</a:t>
            </a: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002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# Imports omitt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user=‘xx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passwd=‘xxxxxxxxxxxx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# Query fragment for the AT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tables = [  stringType('project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tringType('observation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qualifier = """project.code = 'C883'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observation.starttime &gt;= '2000-06-05'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observation.starttime &lt; '2000-06-06'"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erverurl = 'http://plexus.act.cmis.csiro.au:8123/wsdl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erver = WSDL.Proxy(serveru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Pipeline driven from metadata</a:t>
            </a:r>
            <a:endParaRPr b="1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handle = server.GetFileSpaceHandle(intType(1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fetched = server.SimpleQueryFetchFiles( handl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stringType(user), stringType(passwd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arrayType(tables), stringType(qualifi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return_url 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ms = server.Filler(handle, '.'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fetched['fileinfo'], fetched['spws'][0]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return_url 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ms = server.Calibrator(handle, ms, fetched['primary'], fetched['secondary']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return_url 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targets = [fetched['secondary']] + fetched['targets'].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images = server.Imager(handle, ms, target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ImagerParamsType('3arcsec', 512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return_url =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for image in images.dat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urlretrieve(image, os.path.basename(image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server.FreeFileSpaceHandle(hand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15200" y="2209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Fetch files &amp;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Get scratch space o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elect &amp; conver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3657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alibrate against referenc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mage &amp; c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5486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Fetch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5943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Free scratch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1:50:27Z</dcterms:created>
  <dc:creator>CMIS</dc:creator>
  <dc:description/>
  <dc:language>en-US</dc:language>
  <cp:lastModifiedBy>CMIS</cp:lastModifiedBy>
  <dcterms:modified xsi:type="dcterms:W3CDTF">2004-05-27T14:24:30Z</dcterms:modified>
  <cp:revision>5</cp:revision>
  <dc:subject/>
  <dc:title>Observation Data Model &amp; the Radio Data Model</dc:title>
</cp:coreProperties>
</file>